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1.png" ContentType="image/png"/>
  <Override PartName="/ppt/media/image6.wmf" ContentType="image/x-wmf"/>
  <Override PartName="/ppt/media/image19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6.wmf" ContentType="image/x-wmf"/>
  <Override PartName="/ppt/media/image21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18.wmf" ContentType="image/x-wmf"/>
  <Override PartName="/ppt/media/image20.wmf" ContentType="image/x-wmf"/>
  <Override PartName="/ppt/media/image5.jpeg" ContentType="image/jpeg"/>
  <Override PartName="/ppt/media/image1.jpeg" ContentType="image/jpeg"/>
  <Override PartName="/ppt/media/image22.jpeg" ContentType="image/jpeg"/>
  <Override PartName="/ppt/media/image7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8EBE00-CA38-4CE8-93B9-B98E308E71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move the slide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A828AD-C7A9-41D3-9E81-1A1DC69B43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E568A0-15A5-482E-8F55-C98C2E622A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28FA37-34B3-45B2-AE12-26B0E54345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654222-3E3B-456A-BB7C-39B93CBE88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226C47-D894-4133-92D7-7787FEFCCB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DD7B0A-6B2C-4CD8-9660-05243C2E52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739569-41EA-4014-A039-C0F1939CD2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F60A2D-55EE-4C5B-9095-EA94FBB03D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20FF-0C5A-4C11-BBAF-FBF1A250B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1467-AF44-4844-92AD-7BAD78D5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92B89B-05FA-4B03-A346-A6D71077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548BFF-09B8-47C1-9871-5AF6D035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BE1451-601A-4ADE-AF09-607DB237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9D2B6F-C257-4C30-B173-A969FA12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410C8-754D-4C64-80B4-495C1426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43DA3-12DD-4A66-AA93-BC89D75C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BD14AD-8D11-474A-B268-0454E623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3D5D1F-ED00-471D-9494-ECF186495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60163B-EF39-4407-B84D-67982688B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E6A310-B432-42A3-89D1-627B749B1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DFC9-8FBF-4AD3-A1F1-B7A0F6B4D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F6943E-B27F-4F30-AAE6-66A76321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710067-16CA-4C9D-B101-EA117C76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A29B14-961A-443C-A455-78B2DDD4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AD024F-8BCE-49A9-B8FD-15235EBF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31BF68-246D-4145-B225-048FA292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B960A4-383B-4087-962F-D230F6CA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209478-6EDA-47F3-BB70-CCC1CEC9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0387F4-8DF4-4004-A146-5E11C1A8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9CC071-1EFA-40C7-B07C-79D69532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B21B1F-FCD3-4981-9B6B-E8E34AD9B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70A1-94C1-44BC-A83D-2DAD4A931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07197F-37F7-407A-B528-08E92D58F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F79C1-F11C-4AA2-BB6F-FE4F8B6B8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0DDE0-0CEA-435D-AA85-D2813A37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907E3A-608F-4EA9-94EA-13B191D1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D33A5-CF32-4197-8742-6F291559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0EAB30-D2AA-4CBF-B0B6-9C246BB4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9CA27-CC1B-44C6-B60E-865F92BD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8C6D7-DD3B-4976-9378-2F7DEF89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E57E-FA60-4BC0-A2C3-39DED2E1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F6CE0-9C44-48D8-959C-8BC9C345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0662D-51D1-497B-AE87-6D97AB7F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024E6-875A-4E19-8CFE-CAE678AF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43631-0CFE-483B-8D6A-17C170E49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09E96-1CDD-4F31-995F-F267A5163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6C77C-DF49-420E-A10D-C875FC9D3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03D73-CE07-4A8D-8FFB-0628A100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A2184-C405-424C-9B53-4D776DBC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B0FB5-AF91-43F2-86D8-0181328F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AC8EB-1FA4-4D4D-BDC4-912335D7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D5E2-8BAC-4A0F-8C7A-451E1BBE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1200F-093A-4CC4-A765-C0385BE7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50238-D352-41B9-89CF-1A8DBC35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6F59F-02C8-4CD0-857A-BB65B5A3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D760D-56FB-4F33-88E2-5FDD9F4D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D4523-7DFB-4622-B391-D11DAA17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92427-600A-43A9-AACF-E6AA36376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ED8C3-67C3-4156-A8C2-7A8F6E633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D6605-7F95-4041-9C5E-6EF3F006C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C4735-118B-4599-8204-DCB08030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A81CA-8B83-4C74-9B1C-7DE7F86B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6299-74A7-4AAF-A28F-D0C37DA6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9F111-28ED-4354-9EBF-DE4AA34C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4758C-FCE0-41AE-A588-03F0BAEF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04E9A-8A3D-4157-A97F-818E5BAC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CC098-04C2-4F52-B08C-08527567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BD7DA-2F0D-4347-927E-0F452749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197D1-9AFF-4CDE-9B0A-3C457984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79233-90C5-44CF-AA68-DCEB9C90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8A56B-CDF5-4B98-8FFA-63155EA19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CD6DA-8628-40C2-BD10-FF729BA2F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CEFC8-33D3-431F-935C-8D14E7E21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36D7-550B-4BE9-BE94-F5EFA93A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C5906-CA8B-4B3B-B166-A6ECC386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5F914-8378-4CCE-B1F1-68ACBA23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5ABCB-1A42-43E1-B701-6ECA0C900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C4524-376B-4D56-BFCF-322D353F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77DFF-4A9A-470E-A4BF-29A38BBA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17325-9148-491C-AE68-A6235614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B666B-BD01-42F9-A2B0-3F2CE022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DFDF8-FD89-4072-83D4-932FBCED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10CD0-EFB7-403D-9D93-950DF758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C99B6-EF14-43D9-BF70-9DCCDDBB8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B718-9132-4B8A-B742-78BBD2B0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31E7F-66A0-4119-88CC-C8D084D13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4BF2D-41C7-4DDA-BBEA-5BB3DFA8D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666FA-009F-4C52-8010-8B155BBD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ABFC4-5F33-4759-A033-B1A6D8FB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91244-3886-42EE-9C7E-8B3C2B20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F361F-5C52-4725-A0E0-385238D9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1D024-76D0-4AA8-B675-357F2308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80855-26D0-4D95-8888-9C9BF607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6ABC8-D7F8-4D55-8612-A771F9D2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09AA3-AF70-45B1-B7B3-A989E170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C1AB-17CE-4D31-9153-3B009888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3C761-7E8D-42D1-B757-17249114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B7E06-C7FC-4126-A6DA-E06B03933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707FB-C5E4-4C2B-A4BC-0C2ADAD8C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4095F-70EC-4E06-9167-C1D3249FD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B3F43-DD09-42B7-9D18-B917AB43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2611A-C5C7-486E-B6F5-E1C31F3D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9D1D0-9D39-49CD-BD2A-CBB9BBD1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3E05D-29FB-4861-83EC-0C959C93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4E8F8-46D7-479B-BAC6-B59C3426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895EA-F599-4E79-A812-66B7BF4B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C7EC-7DA0-41CA-8061-44C83FDB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8581F-58EB-4EBC-90E0-621DAFD2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EE35C-A927-4B25-8490-3CA235EC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08170-CCE3-4533-AB7C-0A26FA59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B493C-6FD7-4BB0-8BAF-40A359AD1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60AFB-2CDB-4FC8-A83A-695650BEA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F7A41-4899-4A35-9B47-9BB49F8BD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36329-1867-4691-84D6-C699E5F2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1924F-BAEF-4FD0-9B2E-8EA85DD5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E3108-BCFB-4AE4-9AF7-D315C589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95B94-1C72-4599-81DC-D305ED89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E402-02FD-435D-A20F-BE56CFB7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33084-DF87-4F52-B4DC-A7201E1D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EDF7D-0F07-4061-808A-57AB1B25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37131-180E-4689-B7DB-2DC7BDED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D421F-DC1C-474C-BAA7-12216337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9DCC3-7FD7-4958-A945-AA601E0E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D7B41-D54A-4927-B7AF-4C729E3D9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88279-EEA5-479E-B57D-7B887123E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CE1BF8-85AF-4203-A052-F5F071663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5D0519-C61D-4D5F-BE80-85C85F30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CCB337-0E81-4987-8FB6-5651EBEA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E154AE-58F0-42F8-A3FE-50C194E62CE9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F504AE-EC41-4FEA-A961-9B4F77C1EC0E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21A610-0359-4B6C-99A9-9DB2AA85B020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41280" y="928800"/>
            <a:ext cx="843300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457200" y="817560"/>
            <a:ext cx="8229600" cy="117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4" descr="TitleSlideTop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357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TitleSlideBottom.jpg"/>
          <p:cNvPicPr/>
          <p:nvPr/>
        </p:nvPicPr>
        <p:blipFill>
          <a:blip r:embed="rId3"/>
          <a:stretch/>
        </p:blipFill>
        <p:spPr>
          <a:xfrm>
            <a:off x="457200" y="2700360"/>
            <a:ext cx="8229600" cy="3700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0346C4-8CC0-4680-ADFF-7E7ADA617613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4305240" y="649296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1E45BD-02C8-4344-B287-71EDC47FFD4B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326880" y="363600"/>
            <a:ext cx="843912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2" descr="SectionHeaderLeft.jpg"/>
          <p:cNvPicPr/>
          <p:nvPr/>
        </p:nvPicPr>
        <p:blipFill>
          <a:blip r:embed="rId2"/>
          <a:stretch/>
        </p:blipFill>
        <p:spPr>
          <a:xfrm>
            <a:off x="469800" y="457200"/>
            <a:ext cx="2217960" cy="5943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2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 rot="5400000">
            <a:off x="-22320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724116-198E-4F51-AA3A-9D5EC60BA395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06680" y="649296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75E222-2021-4789-B629-E0E23A1426B5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10"/>
          <p:cNvSpPr/>
          <p:nvPr/>
        </p:nvSpPr>
        <p:spPr>
          <a:xfrm flipH="1">
            <a:off x="4572000" y="2797200"/>
            <a:ext cx="1440" cy="337500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B7AB03-1FAF-4723-BD02-A8C058283109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60A744-6C13-479B-8773-E2DCDC163766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"/>
          <p:cNvSpPr/>
          <p:nvPr/>
        </p:nvSpPr>
        <p:spPr>
          <a:xfrm>
            <a:off x="355680" y="566640"/>
            <a:ext cx="8396280" cy="25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6058F1-E3FA-4C45-9825-8DAE4C82D02A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3157E9-9CDD-46A3-B748-84E4AB378340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"/>
          <p:cNvSpPr/>
          <p:nvPr/>
        </p:nvSpPr>
        <p:spPr>
          <a:xfrm>
            <a:off x="333360" y="566640"/>
            <a:ext cx="8454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C311E4-4443-4B44-93B1-BC22580303DB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5BD21F-D04D-4AC7-AA00-5D8B2AEC06AF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355680" y="347760"/>
            <a:ext cx="8432640" cy="23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2"/>
          <p:cNvSpPr/>
          <p:nvPr/>
        </p:nvSpPr>
        <p:spPr>
          <a:xfrm rot="5400000">
            <a:off x="5597640" y="3310560"/>
            <a:ext cx="5943600" cy="236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CDEE64-7611-4F9A-A517-54DB59BF9BD4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20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21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13A09A-44AE-4D3F-AC2B-DADEF82FBA26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0"/>
          <p:cNvSpPr/>
          <p:nvPr/>
        </p:nvSpPr>
        <p:spPr>
          <a:xfrm>
            <a:off x="347760" y="363600"/>
            <a:ext cx="844056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2" descr="VerticalRight.jpg"/>
          <p:cNvPicPr/>
          <p:nvPr/>
        </p:nvPicPr>
        <p:blipFill>
          <a:blip r:embed="rId2"/>
          <a:stretch/>
        </p:blipFill>
        <p:spPr>
          <a:xfrm>
            <a:off x="7112160" y="457200"/>
            <a:ext cx="1546200" cy="594360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2"/>
          <p:cNvSpPr/>
          <p:nvPr/>
        </p:nvSpPr>
        <p:spPr>
          <a:xfrm rot="5400000">
            <a:off x="407376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5E8379-985A-4D57-9C22-A83AEA44E65E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E6EFDF-C1B9-4277-81A4-A73B31D3C538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CD6D31-2805-4D18-AB4E-904E969AED72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6.wmf"/><Relationship Id="rId3" Type="http://schemas.openxmlformats.org/officeDocument/2006/relationships/slide" Target="slide6.xml"/><Relationship Id="rId4" Type="http://schemas.openxmlformats.org/officeDocument/2006/relationships/image" Target="../media/image7.png"/><Relationship Id="rId5" Type="http://schemas.openxmlformats.org/officeDocument/2006/relationships/slide" Target="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6.wmf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968040"/>
            <a:ext cx="7799400" cy="1236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90000"/>
                </a:solidFill>
                <a:latin typeface="Calisto MT"/>
              </a:rPr>
              <a:t>5 Themes of Geography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685440" y="2209320"/>
            <a:ext cx="7799400" cy="4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sto MT"/>
              </a:rPr>
              <a:t>World History I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efab16"/>
                </a:solidFill>
                <a:latin typeface="Tahoma"/>
              </a:rPr>
              <a:t>Theme 4: Location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114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Where is It?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Why is It There?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499" name="Picture 4" descr="bd06663_"/>
          <p:cNvPicPr/>
          <p:nvPr/>
        </p:nvPicPr>
        <p:blipFill>
          <a:blip r:embed="rId1"/>
          <a:stretch/>
        </p:blipFill>
        <p:spPr>
          <a:xfrm>
            <a:off x="685800" y="3657600"/>
            <a:ext cx="2286000" cy="198288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6"/>
          <p:cNvSpPr/>
          <p:nvPr/>
        </p:nvSpPr>
        <p:spPr>
          <a:xfrm>
            <a:off x="5257800" y="1752480"/>
            <a:ext cx="33526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Two Types of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efab16"/>
              </a:buClr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fab16"/>
                </a:solidFill>
                <a:latin typeface="Tahoma"/>
              </a:rPr>
              <a:t>Absol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efab16"/>
              </a:buClr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fab16"/>
                </a:solidFill>
                <a:latin typeface="Tahoma"/>
              </a:rPr>
              <a:t>Rel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3657600" y="4191120"/>
          <a:ext cx="5029200" cy="231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7600" y="4191120"/>
                    <a:ext cx="5029200" cy="2313000"/>
                  </a:xfrm>
                  <a:prstGeom prst="rect">
                    <a:avLst/>
                  </a:prstGeom>
                  <a:ln w="76320">
                    <a:solidFill>
                      <a:srgbClr val="efab16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ff"/>
                </a:solidFill>
                <a:latin typeface="Tahoma"/>
              </a:rPr>
              <a:t>Absolute Location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ahoma"/>
              </a:rPr>
              <a:t>A specific place on the Earth’s surface</a:t>
            </a:r>
            <a:endParaRPr b="0" lang="en-US" sz="2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ahoma"/>
              </a:rPr>
              <a:t>Uses a grid system</a:t>
            </a:r>
            <a:endParaRPr b="0" lang="en-US" sz="2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ahoma"/>
              </a:rPr>
              <a:t>Latitude and longitude</a:t>
            </a:r>
            <a:endParaRPr b="0" lang="en-US" sz="2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ahoma"/>
              </a:rPr>
              <a:t>A global address</a:t>
            </a:r>
            <a:endParaRPr b="0" lang="en-US" sz="26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505" name="Picture 4" descr="bd06662_"/>
          <p:cNvPicPr/>
          <p:nvPr/>
        </p:nvPicPr>
        <p:blipFill>
          <a:blip r:embed="rId1"/>
          <a:stretch/>
        </p:blipFill>
        <p:spPr>
          <a:xfrm>
            <a:off x="1371600" y="4267080"/>
            <a:ext cx="1793880" cy="2057400"/>
          </a:xfrm>
          <a:prstGeom prst="rect">
            <a:avLst/>
          </a:prstGeom>
          <a:ln w="9360">
            <a:solidFill>
              <a:srgbClr val="efab16"/>
            </a:solidFill>
            <a:prstDash val="sysDot"/>
            <a:miter/>
          </a:ln>
        </p:spPr>
      </p:pic>
      <p:pic>
        <p:nvPicPr>
          <p:cNvPr id="506" name="Picture 5" descr="map"/>
          <p:cNvPicPr/>
          <p:nvPr/>
        </p:nvPicPr>
        <p:blipFill>
          <a:blip r:embed="rId2"/>
          <a:stretch/>
        </p:blipFill>
        <p:spPr>
          <a:xfrm>
            <a:off x="4952880" y="3757680"/>
            <a:ext cx="3276720" cy="2622600"/>
          </a:xfrm>
          <a:prstGeom prst="rect">
            <a:avLst/>
          </a:prstGeom>
          <a:ln w="57240">
            <a:solidFill>
              <a:srgbClr val="efab1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ff"/>
                </a:solidFill>
                <a:latin typeface="Tahoma"/>
              </a:rPr>
              <a:t>Relative Location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Where a place is in relation to another place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Uses directional words to describe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Cardinal and intermediate directions</a:t>
            </a:r>
            <a:endParaRPr b="0" lang="en-US" sz="24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509" name="Picture 7" descr="j0293746"/>
          <p:cNvPicPr/>
          <p:nvPr/>
        </p:nvPicPr>
        <p:blipFill>
          <a:blip r:embed="rId1"/>
          <a:stretch/>
        </p:blipFill>
        <p:spPr>
          <a:xfrm>
            <a:off x="4419720" y="1905120"/>
            <a:ext cx="432756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800000"/>
                </a:solidFill>
                <a:latin typeface="Tahoma"/>
              </a:rPr>
              <a:t>Theme 4: Movemen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The Mobility of</a:t>
            </a:r>
            <a:endParaRPr b="0" lang="en-US" sz="2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People</a:t>
            </a:r>
            <a:endParaRPr b="0" lang="en-US" sz="2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Goods</a:t>
            </a:r>
            <a:endParaRPr b="0" lang="en-US" sz="2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Ideas</a:t>
            </a:r>
            <a:endParaRPr b="0" lang="en-US" sz="2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How Places are linked to one another and the world</a:t>
            </a:r>
            <a:endParaRPr b="0" lang="en-US" sz="2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1440" y="192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8" descr="Scaled Composites Airplanes in Flight"/>
          <p:cNvPicPr/>
          <p:nvPr/>
        </p:nvPicPr>
        <p:blipFill>
          <a:blip r:embed="rId1"/>
          <a:stretch/>
        </p:blipFill>
        <p:spPr>
          <a:xfrm>
            <a:off x="304920" y="380880"/>
            <a:ext cx="1600200" cy="292572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pic>
        <p:nvPicPr>
          <p:cNvPr id="514" name="Picture 13" descr="Overview of Railroad Yard"/>
          <p:cNvPicPr/>
          <p:nvPr/>
        </p:nvPicPr>
        <p:blipFill>
          <a:blip r:embed="rId2"/>
          <a:stretch/>
        </p:blipFill>
        <p:spPr>
          <a:xfrm>
            <a:off x="2209680" y="3551400"/>
            <a:ext cx="1932120" cy="292572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5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500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500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500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500"/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DEFINITION OF GEOGRAPHY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62626"/>
                </a:solidFill>
                <a:latin typeface="Calisto MT"/>
              </a:rPr>
              <a:t>ge·og·ra·phy</a:t>
            </a:r>
            <a:br>
              <a:rPr sz="4000"/>
            </a:br>
            <a:r>
              <a:rPr b="1" lang="en-US" sz="4000" spc="-1" strike="noStrike">
                <a:solidFill>
                  <a:srgbClr val="990000"/>
                </a:solidFill>
                <a:latin typeface="Calisto MT"/>
              </a:rPr>
              <a:t>1</a:t>
            </a:r>
            <a:r>
              <a:rPr b="0" lang="en-US" sz="4000" spc="-1" strike="noStrike">
                <a:solidFill>
                  <a:srgbClr val="990000"/>
                </a:solidFill>
                <a:latin typeface="Calisto MT"/>
              </a:rPr>
              <a:t> </a:t>
            </a:r>
            <a:r>
              <a:rPr b="1" lang="en-US" sz="4000" spc="-1" strike="noStrike">
                <a:solidFill>
                  <a:srgbClr val="990000"/>
                </a:solidFill>
                <a:latin typeface="Calisto MT"/>
              </a:rPr>
              <a:t>:</a:t>
            </a:r>
            <a:r>
              <a:rPr b="0" lang="en-US" sz="4000" spc="-1" strike="noStrike">
                <a:solidFill>
                  <a:srgbClr val="990000"/>
                </a:solidFill>
                <a:latin typeface="Calisto MT"/>
              </a:rPr>
              <a:t> </a:t>
            </a:r>
            <a:r>
              <a:rPr b="1" lang="en-US" sz="4000" spc="-1" strike="noStrike">
                <a:solidFill>
                  <a:srgbClr val="990000"/>
                </a:solidFill>
                <a:latin typeface="Calisto MT"/>
              </a:rPr>
              <a:t># </a:t>
            </a:r>
            <a:r>
              <a:rPr b="1" lang="en-US" sz="2400" spc="-1" strike="noStrike">
                <a:solidFill>
                  <a:srgbClr val="990000"/>
                </a:solidFill>
                <a:latin typeface="Calisto MT"/>
              </a:rPr>
              <a:t> The study of the earth and its features and of the distribution of life on the earth, including human life and the effects of human activity.</a:t>
            </a:r>
            <a:endParaRPr b="0" lang="en-US" sz="24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Calisto MT"/>
              </a:rPr>
              <a:t># The physical characteristics, especially the surface features, of an area.</a:t>
            </a:r>
            <a:br>
              <a:rPr sz="4000"/>
            </a:br>
            <a:endParaRPr b="0" lang="en-US" sz="2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56" name="Slide Number Placeholder 5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06C454-71E1-4935-AA9D-2E64A0C73B9C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Slide Number Placeholder 5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FB6A8D-2F7F-4707-8674-5EBBE1B92F10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IN PLAIN ENGLISH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alisto MT"/>
              </a:rPr>
              <a:t>Geography is the study of the earth and everything on it.</a:t>
            </a:r>
            <a:endParaRPr b="0" lang="en-US" sz="48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Slide Number Placeholder 5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C96FCD-A26B-41A2-A2B2-24AA0EBB8127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7720" y="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5 THEMES OF GEOGRAPHY</a:t>
            </a:r>
            <a:br>
              <a:rPr sz="5200"/>
            </a:b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462" name="Picture 6" descr="mp00640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3048120"/>
            <a:ext cx="1905120" cy="18986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7" descr="REGION GRAPHIC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354400" y="5203800"/>
            <a:ext cx="2217600" cy="165420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hydroelec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757680" y="2819520"/>
            <a:ext cx="1628640" cy="179064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9" descr="forest"/>
          <p:cNvPicPr/>
          <p:nvPr/>
        </p:nvPicPr>
        <p:blipFill>
          <a:blip r:embed="rId7"/>
          <a:stretch/>
        </p:blipFill>
        <p:spPr>
          <a:xfrm>
            <a:off x="5486400" y="5029200"/>
            <a:ext cx="1752480" cy="148896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0" descr="Transport"/>
          <p:cNvPicPr/>
          <p:nvPr/>
        </p:nvPicPr>
        <p:blipFill>
          <a:blip r:embed="rId8"/>
          <a:stretch/>
        </p:blipFill>
        <p:spPr>
          <a:xfrm>
            <a:off x="6858000" y="3144960"/>
            <a:ext cx="1908000" cy="1503360"/>
          </a:xfrm>
          <a:prstGeom prst="rect">
            <a:avLst/>
          </a:prstGeom>
          <a:ln w="0">
            <a:noFill/>
          </a:ln>
        </p:spPr>
      </p:pic>
      <p:sp>
        <p:nvSpPr>
          <p:cNvPr id="467" name="WordArt 11"/>
          <p:cNvSpPr txBox="1"/>
          <p:nvPr/>
        </p:nvSpPr>
        <p:spPr>
          <a:xfrm>
            <a:off x="609480" y="2666880"/>
            <a:ext cx="1381320" cy="97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PLA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468" name="WordArt 12"/>
          <p:cNvSpPr txBox="1"/>
          <p:nvPr/>
        </p:nvSpPr>
        <p:spPr>
          <a:xfrm>
            <a:off x="5181480" y="4648320"/>
            <a:ext cx="1381320" cy="97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LOC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469" name="WordArt 13"/>
          <p:cNvSpPr txBox="1"/>
          <p:nvPr/>
        </p:nvSpPr>
        <p:spPr>
          <a:xfrm>
            <a:off x="7238880" y="2451240"/>
            <a:ext cx="100008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MOVEM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470" name="WordArt 14"/>
          <p:cNvSpPr txBox="1"/>
          <p:nvPr/>
        </p:nvSpPr>
        <p:spPr>
          <a:xfrm>
            <a:off x="2647800" y="2590920"/>
            <a:ext cx="3848400" cy="55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Human-Environment Interactio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471" name="WordArt 15"/>
          <p:cNvSpPr txBox="1"/>
          <p:nvPr/>
        </p:nvSpPr>
        <p:spPr>
          <a:xfrm>
            <a:off x="2057400" y="4648320"/>
            <a:ext cx="1380960" cy="97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REG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Slide Number Placeholder 5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06E71E-A194-46AD-8AE8-F447D00CB0CA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WHERE DID THE 5 THEMES COME FROM?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e 5 Themes of Geography originated by the National Geographic Society to fulfill a need for geographers (people who study the earth and everything on it) categorize everything they learn.  These 5 places are easy to remember.  Just say the word “PRILM”.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475" name="Picture 4" descr="globe5"/>
          <p:cNvPicPr/>
          <p:nvPr/>
        </p:nvPicPr>
        <p:blipFill>
          <a:blip r:embed="rId1"/>
          <a:stretch/>
        </p:blipFill>
        <p:spPr>
          <a:xfrm>
            <a:off x="6477120" y="5029200"/>
            <a:ext cx="114300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Slide Number Placeholder 5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1631FB-937C-43CE-B278-CD6D36143EDF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WHAT IS “PRILM”?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3915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71080" indent="0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PRILM is a mnemonic device that can be used to help remember what the 5 Themes of Geography are.  Simply put, take the first letter of each Theme to create the word PRILM.  They are: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71080" indent="-271080">
              <a:lnSpc>
                <a:spcPct val="7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Calisto MT"/>
              </a:rPr>
              <a:t>P</a:t>
            </a: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lace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71080" indent="-271080">
              <a:lnSpc>
                <a:spcPct val="7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Calisto MT"/>
              </a:rPr>
              <a:t>R</a:t>
            </a: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egion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71080" indent="-271080">
              <a:lnSpc>
                <a:spcPct val="7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Calisto MT"/>
              </a:rPr>
              <a:t>I</a:t>
            </a: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nteraction (Human-Environment)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71080" indent="-271080">
              <a:lnSpc>
                <a:spcPct val="7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Calisto MT"/>
              </a:rPr>
              <a:t>L</a:t>
            </a: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ocation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71080" indent="-271080">
              <a:lnSpc>
                <a:spcPct val="7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Calisto MT"/>
              </a:rPr>
              <a:t>M</a:t>
            </a: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ovemen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479" name="Picture 4" descr="REGION GRAPHIC"/>
          <p:cNvPicPr/>
          <p:nvPr/>
        </p:nvPicPr>
        <p:blipFill>
          <a:blip r:embed="rId1"/>
          <a:stretch/>
        </p:blipFill>
        <p:spPr>
          <a:xfrm>
            <a:off x="2209680" y="5257800"/>
            <a:ext cx="1532160" cy="11430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5" descr="forest"/>
          <p:cNvPicPr/>
          <p:nvPr/>
        </p:nvPicPr>
        <p:blipFill>
          <a:blip r:embed="rId2"/>
          <a:stretch/>
        </p:blipFill>
        <p:spPr>
          <a:xfrm>
            <a:off x="5715000" y="5257800"/>
            <a:ext cx="1333440" cy="11336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6" descr="hydroelec"/>
          <p:cNvPicPr/>
          <p:nvPr/>
        </p:nvPicPr>
        <p:blipFill>
          <a:blip r:embed="rId3"/>
          <a:stretch/>
        </p:blipFill>
        <p:spPr>
          <a:xfrm>
            <a:off x="4016520" y="5181480"/>
            <a:ext cx="1109520" cy="121932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7" descr="mp00640_"/>
          <p:cNvPicPr/>
          <p:nvPr/>
        </p:nvPicPr>
        <p:blipFill>
          <a:blip r:embed="rId4"/>
          <a:stretch/>
        </p:blipFill>
        <p:spPr>
          <a:xfrm>
            <a:off x="533520" y="5257800"/>
            <a:ext cx="1295280" cy="129060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8" descr="Transport"/>
          <p:cNvPicPr/>
          <p:nvPr/>
        </p:nvPicPr>
        <p:blipFill>
          <a:blip r:embed="rId5"/>
          <a:stretch/>
        </p:blipFill>
        <p:spPr>
          <a:xfrm>
            <a:off x="7467480" y="5257800"/>
            <a:ext cx="1451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993366"/>
                </a:solidFill>
                <a:latin typeface="Tahoma"/>
              </a:rPr>
              <a:t>Theme 1:  Place</a:t>
            </a:r>
            <a:br>
              <a:rPr sz="5200"/>
            </a:br>
            <a:r>
              <a:rPr b="0" lang="en-US" sz="5200" spc="-1" strike="noStrike">
                <a:solidFill>
                  <a:srgbClr val="993366"/>
                </a:solidFill>
                <a:latin typeface="Tahoma"/>
              </a:rPr>
              <a:t>Physical Characteristic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862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3366"/>
                </a:solidFill>
                <a:latin typeface="Tahoma"/>
              </a:rPr>
              <a:t>Land Features</a:t>
            </a:r>
            <a:endParaRPr b="0" lang="en-US" sz="2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3366"/>
                </a:solidFill>
                <a:latin typeface="Tahoma"/>
              </a:rPr>
              <a:t>Mountains, plains, and plateaus</a:t>
            </a:r>
            <a:endParaRPr b="0" lang="en-US" sz="2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3366"/>
                </a:solidFill>
                <a:latin typeface="Tahoma"/>
              </a:rPr>
              <a:t>Climate</a:t>
            </a:r>
            <a:endParaRPr b="0" lang="en-US" sz="2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3366"/>
                </a:solidFill>
                <a:latin typeface="Tahoma"/>
              </a:rPr>
              <a:t>Bodies of Water</a:t>
            </a:r>
            <a:endParaRPr b="0" lang="en-US" sz="2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86" name="Rectangle 5"/>
          <p:cNvSpPr/>
          <p:nvPr/>
        </p:nvSpPr>
        <p:spPr>
          <a:xfrm>
            <a:off x="1440" y="24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8" descr="Mountains Reflect in a Lake"/>
          <p:cNvPicPr/>
          <p:nvPr/>
        </p:nvPicPr>
        <p:blipFill>
          <a:blip r:embed="rId1"/>
          <a:stretch/>
        </p:blipFill>
        <p:spPr>
          <a:xfrm>
            <a:off x="1219320" y="4572000"/>
            <a:ext cx="2925720" cy="1954080"/>
          </a:xfrm>
          <a:prstGeom prst="rect">
            <a:avLst/>
          </a:prstGeom>
          <a:ln w="57240">
            <a:solidFill>
              <a:srgbClr val="993366"/>
            </a:solidFill>
            <a:miter/>
          </a:ln>
        </p:spPr>
      </p:pic>
      <p:sp>
        <p:nvSpPr>
          <p:cNvPr id="488" name="Rectangle 10"/>
          <p:cNvSpPr/>
          <p:nvPr/>
        </p:nvSpPr>
        <p:spPr>
          <a:xfrm>
            <a:off x="1440" y="192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15" descr="grcanyon2"/>
          <p:cNvPicPr/>
          <p:nvPr/>
        </p:nvPicPr>
        <p:blipFill>
          <a:blip r:embed="rId2"/>
          <a:stretch/>
        </p:blipFill>
        <p:spPr>
          <a:xfrm>
            <a:off x="4724280" y="2133720"/>
            <a:ext cx="3962520" cy="269244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996633"/>
                </a:solidFill>
                <a:latin typeface="Tahoma"/>
              </a:rPr>
              <a:t>Theme 2:  Reg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6553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Tahoma"/>
              </a:rPr>
              <a:t>What Places Have in Common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Tahoma"/>
              </a:rPr>
              <a:t>Political Region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Tahoma"/>
              </a:rPr>
              <a:t>Landform Region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Tahoma"/>
              </a:rPr>
              <a:t>Agricultural Region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Tahoma"/>
              </a:rPr>
              <a:t>Cultural Region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492" name="Picture 4" descr="Zermatt"/>
          <p:cNvPicPr/>
          <p:nvPr/>
        </p:nvPicPr>
        <p:blipFill>
          <a:blip r:embed="rId1"/>
          <a:stretch/>
        </p:blipFill>
        <p:spPr>
          <a:xfrm>
            <a:off x="4952880" y="3200400"/>
            <a:ext cx="3886200" cy="296064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80"/>
                </a:solidFill>
                <a:latin typeface="Tahoma"/>
              </a:rPr>
              <a:t>Theme 3:  Human Environment Interaction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Tahoma"/>
              </a:rPr>
              <a:t>How People Interact With Their Environmen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Tahoma"/>
              </a:rPr>
              <a:t>People . . .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80"/>
                </a:solidFill>
                <a:latin typeface="Tahoma"/>
              </a:rPr>
              <a:t>Adapt</a:t>
            </a:r>
            <a:r>
              <a:rPr b="1" lang="en-US" sz="2000" spc="-1" strike="noStrike">
                <a:solidFill>
                  <a:srgbClr val="008080"/>
                </a:solidFill>
                <a:latin typeface="Tahoma"/>
              </a:rPr>
              <a:t> to Their Environmen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80"/>
                </a:solidFill>
                <a:latin typeface="Tahoma"/>
              </a:rPr>
              <a:t>Modify</a:t>
            </a:r>
            <a:r>
              <a:rPr b="1" lang="en-US" sz="2000" spc="-1" strike="noStrike">
                <a:solidFill>
                  <a:srgbClr val="008080"/>
                </a:solidFill>
                <a:latin typeface="Tahoma"/>
              </a:rPr>
              <a:t> Their Environmen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80"/>
                </a:solidFill>
                <a:latin typeface="Tahoma"/>
              </a:rPr>
              <a:t>Depend</a:t>
            </a:r>
            <a:r>
              <a:rPr b="1" lang="en-US" sz="2000" spc="-1" strike="noStrike">
                <a:solidFill>
                  <a:srgbClr val="008080"/>
                </a:solidFill>
                <a:latin typeface="Tahoma"/>
              </a:rPr>
              <a:t> on Their Environmen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495" name="Picture 4" descr="BAG0017"/>
          <p:cNvPicPr/>
          <p:nvPr/>
        </p:nvPicPr>
        <p:blipFill>
          <a:blip r:embed="rId1"/>
          <a:stretch/>
        </p:blipFill>
        <p:spPr>
          <a:xfrm>
            <a:off x="5105520" y="2514600"/>
            <a:ext cx="3314520" cy="2209680"/>
          </a:xfrm>
          <a:prstGeom prst="rect">
            <a:avLst/>
          </a:prstGeom>
          <a:ln w="38160">
            <a:solidFill>
              <a:srgbClr val="009999"/>
            </a:solidFill>
            <a:miter/>
          </a:ln>
        </p:spPr>
      </p:pic>
      <p:sp>
        <p:nvSpPr>
          <p:cNvPr id="496" name="Rectangle 5"/>
          <p:cNvSpPr/>
          <p:nvPr/>
        </p:nvSpPr>
        <p:spPr>
          <a:xfrm>
            <a:off x="4438800" y="6324480"/>
            <a:ext cx="471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sto MT"/>
              </a:rPr>
              <a:t>http://www.fotosearch.com/comp/corbis/DGT119/BAG0017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0T10:47:59Z</dcterms:created>
  <dc:creator>IT User</dc:creator>
  <dc:description/>
  <dc:language>en-US</dc:language>
  <cp:lastModifiedBy>IT User</cp:lastModifiedBy>
  <dcterms:modified xsi:type="dcterms:W3CDTF">2010-10-12T16:13:47Z</dcterms:modified>
  <cp:revision>9</cp:revision>
  <dc:subject/>
  <dc:title>5 Themes of Geography</dc:title>
</cp:coreProperties>
</file>